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029-8875-41D9-B149-616B01D7B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4669-F5DE-4083-889B-B0D0A882D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BFD5-24EA-444B-B462-3C9A8A7B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805B-BD6B-411A-8611-9D91C4DB4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3841-021B-4D7D-8385-8F3CACF82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720C-2D62-4956-BE78-810AB10B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6EAA9-B195-4377-8842-A07FD0E7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D25E-8846-40BC-BBFB-57619FBDA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94BD-3189-4565-BD42-78769890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4862-0CED-4510-B9C0-DE8E9397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7B952-13B8-4EEF-A65F-57BBF4BB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0B57-86CB-4406-96A5-DF8E2F707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5D2DE-C0EE-4B13-BE00-C944297ED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95635-4280-4D79-A32E-7B9806B8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E8324-FCAC-40A1-93FB-7DCBE443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227FD-2322-4814-92DA-2B2400CD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B4758-5420-4F8F-87FA-48E84515D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D36-84B0-43B1-86E8-E60B2F5D0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5BC1-D6C8-4497-9F21-14DFEC15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3D49-BBCC-4666-8083-6945A13A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07FA-78F2-478D-8AFE-48F3127EA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5033-267D-4DCC-9DE7-E0E8F9F9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0E85-DB03-4037-825B-29007F37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C3F-2EDE-44BD-B27A-85F0A063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8D905-5302-4A8E-9164-E434F0DF30A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EC0CA-39B3-44D2-821B-D10D65B72B4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480" y="785520"/>
            <a:ext cx="7273800" cy="165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0066"/>
                </a:solidFill>
                <a:latin typeface="Arial"/>
              </a:rPr>
              <a:t>МИНСПОРТТУРИЗМА РОССИИ </a:t>
            </a:r>
            <a:br>
              <a:rPr sz="1200"/>
            </a:br>
            <a:r>
              <a:rPr b="0" lang="ru-RU" sz="1200" spc="-1" strike="noStrike">
                <a:solidFill>
                  <a:srgbClr val="330066"/>
                </a:solidFill>
                <a:latin typeface="Arial"/>
              </a:rPr>
              <a:t>ФГУ "ЦСП СБОРНЫХ КОМАНД РОССИИ" </a:t>
            </a:r>
            <a:br>
              <a:rPr sz="1200"/>
            </a:br>
            <a:r>
              <a:rPr b="0" lang="ru-RU" sz="1200" spc="-1" strike="noStrike">
                <a:solidFill>
                  <a:srgbClr val="330066"/>
                </a:solidFill>
                <a:latin typeface="Arial"/>
              </a:rPr>
              <a:t>ВСЕРОССИЙСКАЯ ФЕДЕРАЦИЯ ЛЕГКОЙ АТЛЕТИКИ </a:t>
            </a:r>
            <a:br>
              <a:rPr sz="1200"/>
            </a:br>
            <a:r>
              <a:rPr b="0" lang="ru-RU" sz="1200" spc="-1" strike="noStrike">
                <a:solidFill>
                  <a:srgbClr val="330066"/>
                </a:solidFill>
                <a:latin typeface="Arial"/>
              </a:rPr>
              <a:t>ФГУП "ЮЖНЫЙ ФЕДЕРАЛЬНЫЙ ЦЕНТР СПОРТИВНОЙ ПОДГОТОВКИ" (ФГУП "ЮГ СПОРТ") </a:t>
            </a:r>
            <a:br>
              <a:rPr sz="1400"/>
            </a:br>
            <a:endParaRPr b="1" lang="en-US" sz="1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250560" y="3049560"/>
            <a:ext cx="705780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바탕"/>
              </a:rPr>
              <a:t>ВТОРОЙ ЭТАП II ЛЕТНЕЙ СПАРТАКИАДЫ МОЛОДЕЖИ РОССИИ 2010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5-16.05.2010 г.                                                               г. Сочи ст. «Центральный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93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Второй этап II летней Спартакиады молодежи России 2010 года</a:t>
            </a:r>
            <a:br>
              <a:rPr sz="1600"/>
            </a:br>
            <a:endParaRPr b="1" lang="en-US" sz="16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57200" y="1389240"/>
          <a:ext cx="7400880" cy="4694040"/>
        </p:xfrm>
        <a:graphic>
          <a:graphicData uri="http://schemas.openxmlformats.org/drawingml/2006/table">
            <a:tbl>
              <a:tblPr/>
              <a:tblGrid>
                <a:gridCol w="4186080"/>
                <a:gridCol w="1873440"/>
                <a:gridCol w="1341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ганизационный делегат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ический делега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Слеп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стов Н/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удь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. Максим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лавный секретар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Мисан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удьи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кадрам и безопас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Егиазаря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по информации и награжде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Пеш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. Ровен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. Главного секретар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 Ширя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вод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бег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 Бойчен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прыжк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 Куз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ахты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фери по метания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. Синицы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службы инвентаря и обору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 Мальце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пеляционное жюр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. Кузи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.Бойк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. Безъязыч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ск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ч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од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05:41:56Z</dcterms:created>
  <dc:creator>Wl</dc:creator>
  <dc:description/>
  <dc:language>en-US</dc:language>
  <cp:lastModifiedBy>123</cp:lastModifiedBy>
  <dcterms:modified xsi:type="dcterms:W3CDTF">2010-05-16T10:47:51Z</dcterms:modified>
  <cp:revision>14</cp:revision>
  <dc:subject/>
  <dc:title>ДЕПАРТАМЕНТ ПО ФИЗИЧЕСКОЙ КУЛЬТУРЕ И СПОРТУ  КРАСНОДАРСКОГО КРАЯ ФЕДЕРАЦИЯ ЛЕГКОЙ АТЛЕТИКИ КРАСНОДАРСКОГО КРАЯ КУБАНСКИЙ ГОСУДАРСТВЕННЫЙ УНИВЕРСИТЕТ ФИЗИЧЕСКОЙ КУЛЬТУРЫ, СПОРТА И ТУРИЗМА КАФЕДРА ТЕОРИИ И МЕТОДИКИ ЛЕГКОЙ АТЛЕТИКИ   СПОРТИВНЫЙ КЛУБ  КГУФКС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3</vt:r8>
  </property>
</Properties>
</file>